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DDB8-D139-4ED8-B186-D88A7A591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57A3-4951-44D6-83F5-06A71352B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C297-74BF-439A-A07C-DC54FCD51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AF07-7DBE-417A-BB22-EBBBF420F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70A2-1130-4039-AED9-BA1FB4F83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C999-1FD1-41DD-AE3C-98125F65F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896C-45E1-4E01-BAA0-869520894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54A9-851C-45A0-985A-CB960284F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E11D-8F1F-4FAF-8513-E0F6F4D45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04D0-411C-47C3-8B52-494AB499E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4AA1-5A78-4900-89BC-26D07AE6F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8DFA-0B86-4F9E-AB35-4815C8845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A760-0A1C-46F2-A3A4-CE914CE96E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sources.curriculum.org/secretariat/honouring/fostering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gains.ca/newsite/math2/classroomdynamic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76AB-8327-431B-8416-4F3CA62BFF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lling Abou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3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 about – meet as many group members as possible and record their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A20C-6071-49B0-AEA3-EBD94FCE78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95FB-D67D-42BD-8327-A765F5BAA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norms for collaborative 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917A-8BAF-4EEE-8AF2-1B0EBB1A36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n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you a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ideas you recorded and  position yourself on the line between 1(no) and 10 (y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rompt and your position with those besid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3D97-410A-4EDD-ABC5-5D09F21010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“norms” (rules, conditions) need to be in place if we are to work and learn together collaboratively in groups as mathematician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take 4 or 5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suggestion on each note (example: everyone gets a chance to share think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7BCA-EADD-41AB-9755-3E73788EEB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 (con’t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four compare your sticky notes and pile ones that are the same idea on top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with another group of four and repea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roup of eight will read their sticky piles while remaining groups who have a similar pile put theirs on top until all sticky notes ar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DBF6-4F88-4389-B416-8EA4123F41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ouring Student Voice (Fostering a Community of Learners) It's ok to disagree!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ources.curriculum.org/secretariat/honouring/foster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8EA4-CD63-4120-87DB-2AF0B91673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me Activity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ay wish to visit the EduGAINS Site and review the Classroom Dynamics resources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//www.edugains.ca/newsite/math2/classroomdynamic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research monograph by Dr. Cathy Bruce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 Interaction in the Math Classroom: Stealing Ideas or Building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edugains.ca/newsite/lns/whatworks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AE6-7F7E-4EB4-9054-A2D4085224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24T19:51:48Z</dcterms:modified>
  <cp:revision>38</cp:revision>
  <dc:subject/>
  <dc:title>&lt;Title&gt;</dc:title>
</cp:coreProperties>
</file>